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9946-9A1C-4A43-A6F9-23D8FAA4E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C840-4A5C-4A7B-8F70-24766762A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106-5A08-4098-889E-C5B04799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04E-F3CB-4FD6-9E5A-66FFFB1E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54C1-2B96-4AD1-AD32-97D05C7F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33CE-A722-44A4-875B-199ADA8D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2934-CECB-47DD-BA2F-3F3D5DAF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757F-D7D5-4C4D-A489-C59E35B7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FAB0-24F0-440F-854E-3DD29F3F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6A7-FDD8-44CB-A2F6-11599281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EAA-7773-4990-9DB2-93C33EEA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EBD4-545A-478A-BB9F-0D3F8E22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CC0-91F1-4C83-8EB0-EC4BD23D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705D-5372-47CA-8117-DB4DAA8A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B0C1-DA36-4204-986A-C38150A2C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4 The ancestral roots of the English language have been traced back to present-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c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4 The ancestral roots of the English language have been traced back to present-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c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5 The second-most commonly spoken language in South America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rtugu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hin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5 The second-most commonly spoken language in South America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Portugu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hin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6 A creolized language is a local language mixed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nother loc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t least 20% s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language of a colonial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6 A creolized language is a local language mixed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nother loc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t least 20% s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The language of a colonial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7 The most common language branch in eastern Europ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o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est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alto-Sla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7 The most common language branch in eastern Europ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o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est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Balto-Sla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8 The primary reason why there are so many distinct languages in Africa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long periods of isolation between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policies of the European colonial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migrations to Africa from Asia and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major religious differences between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 cultural preference for languages that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telligible to others outside the immedi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8 The primary reason why there are so many distinct languages in Africa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The long periods of isolation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policies of the European colonial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migrations to Africa from Asia and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major religious differences between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 cultural preference for languages that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telligible to others outside the immedi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1 Which of the following will encompass the largest number of speak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anguag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nguage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dividu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al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guag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9 The predomina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gua fran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da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wah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id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re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9 The predomina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gua fran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da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wah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id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re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10 _________ is the native language of the largest number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i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nd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uss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10 _________ is the native language of the largest number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i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Mand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uss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1 Which of the following will encompass the largest number of speak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Languag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nguage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dividu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al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guage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2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Romance langua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rtugu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tal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2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Romance langua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rtugu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tal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G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05_08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3 Which of the following language branche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member of the Indo-European language fami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alto-Sla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el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aucas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3 Which of the following language branche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member of the Indo-European language fami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alto-Sla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el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Caucas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05_05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4-24T22:24:37Z</dcterms:modified>
  <cp:revision>82</cp:revision>
  <dc:subject/>
  <dc:title>CRS Chapter 4</dc:title>
</cp:coreProperties>
</file>